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BC1E-4D7B-494C-BB2C-2865FAA5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F89C-DC71-4B82-8332-400E486C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A1C1-F47A-4D11-AAA6-DBC607C10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FBCE-7955-4304-ADAE-A5F205CFB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21D-9030-489A-9546-D6476614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8B2-A72E-4BF4-ABDD-1EB53FCD7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EB0-1F1D-451C-8E96-C9D57F112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2170-2B42-4C89-87F5-ECC7D921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7240" y="712800"/>
            <a:ext cx="4943520" cy="34225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BF71-08C3-450B-8F2D-4BDAC3E1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0F9-34BA-4E7A-B1AD-D6E6C6E2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E8C5-4065-477A-8DD7-DE2ABCD4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EF2-0E29-459E-841B-E879A54C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A02-A15B-42AC-BB53-C1998323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CF9-66A6-41EA-BA9A-FD8567D9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361-FE2B-4355-8E10-6D5C7F7E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BC2-32A2-48CB-A30A-0C6483B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765-07AF-4260-81E2-30AF2AFC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811-D264-46CE-95A2-08D4B03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1F5-56C9-4F5E-99FB-6831C292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FB0-964B-4CFA-BFCD-69F16B4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4F2-FB06-4595-AE53-3CBD992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652-6CA1-4AC2-B5D6-ADDC552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25F-FAA7-4710-AE0F-EABCFC8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A2E-18E4-44E3-BC74-49253E2DD3AE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677160" cy="1049400"/>
            <a:chOff x="0" y="0"/>
            <a:chExt cx="9677160" cy="1049400"/>
          </a:xfrm>
        </p:grpSpPr>
        <p:sp>
          <p:nvSpPr>
            <p:cNvPr id="6" name=""/>
            <p:cNvSpPr/>
            <p:nvPr/>
          </p:nvSpPr>
          <p:spPr>
            <a:xfrm>
              <a:off x="807840" y="493560"/>
              <a:ext cx="886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2580480" y="139680"/>
              <a:ext cx="698940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II  2004-2005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1040" cy="1049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36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277440" y="53341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5894280"/>
            <a:ext cx="9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materiale didattico per questa lezione e’ a disposizione presso il Dipartimento di Genetica e Microbi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EBB-4233-458D-905D-5EA8868075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42640" y="1295280"/>
            <a:ext cx="9005760" cy="747720"/>
            <a:chOff x="242640" y="1295280"/>
            <a:chExt cx="9005760" cy="747720"/>
          </a:xfrm>
        </p:grpSpPr>
        <p:sp>
          <p:nvSpPr>
            <p:cNvPr id="501" name=""/>
            <p:cNvSpPr/>
            <p:nvPr/>
          </p:nvSpPr>
          <p:spPr>
            <a:xfrm>
              <a:off x="973440" y="1510920"/>
              <a:ext cx="199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0364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9240" y="1407960"/>
              <a:ext cx="563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7876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13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468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26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88000" y="2158920"/>
            <a:ext cx="922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599920" y="3474720"/>
            <a:ext cx="5535720" cy="1903680"/>
            <a:chOff x="2599920" y="3474720"/>
            <a:chExt cx="5535720" cy="1903680"/>
          </a:xfrm>
        </p:grpSpPr>
        <p:grpSp>
          <p:nvGrpSpPr>
            <p:cNvPr id="523" name=""/>
            <p:cNvGrpSpPr/>
            <p:nvPr/>
          </p:nvGrpSpPr>
          <p:grpSpPr>
            <a:xfrm>
              <a:off x="2741400" y="4191120"/>
              <a:ext cx="5394240" cy="307080"/>
              <a:chOff x="2741400" y="4191120"/>
              <a:chExt cx="5394240" cy="307080"/>
            </a:xfrm>
          </p:grpSpPr>
          <p:sp>
            <p:nvSpPr>
              <p:cNvPr id="524" name=""/>
              <p:cNvSpPr/>
              <p:nvPr/>
            </p:nvSpPr>
            <p:spPr>
              <a:xfrm>
                <a:off x="2741400" y="4368960"/>
                <a:ext cx="533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2272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15720" y="42292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724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988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6472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6300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1488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140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550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6912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3688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5536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599920" y="3579840"/>
              <a:ext cx="627120" cy="784440"/>
              <a:chOff x="2599920" y="3579840"/>
              <a:chExt cx="627120" cy="784440"/>
            </a:xfrm>
          </p:grpSpPr>
          <p:sp>
            <p:nvSpPr>
              <p:cNvPr id="538" name=""/>
              <p:cNvSpPr/>
              <p:nvPr/>
            </p:nvSpPr>
            <p:spPr>
              <a:xfrm rot="418800">
                <a:off x="2641680" y="3610080"/>
                <a:ext cx="5432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67320" y="36417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543840" y="3475080"/>
              <a:ext cx="2826360" cy="784800"/>
              <a:chOff x="3543840" y="3475080"/>
              <a:chExt cx="2826360" cy="784800"/>
            </a:xfrm>
          </p:grpSpPr>
          <p:sp>
            <p:nvSpPr>
              <p:cNvPr id="541" name=""/>
              <p:cNvSpPr/>
              <p:nvPr/>
            </p:nvSpPr>
            <p:spPr>
              <a:xfrm rot="418800">
                <a:off x="4119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418800">
                <a:off x="4930200" y="35053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18800">
                <a:off x="5784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418800">
                <a:off x="358560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552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26720" y="3554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5692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148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351600" y="4475520"/>
              <a:ext cx="3798360" cy="902880"/>
              <a:chOff x="3351600" y="4475520"/>
              <a:chExt cx="3798360" cy="902880"/>
            </a:xfrm>
          </p:grpSpPr>
          <p:sp>
            <p:nvSpPr>
              <p:cNvPr id="550" name=""/>
              <p:cNvSpPr/>
              <p:nvPr/>
            </p:nvSpPr>
            <p:spPr>
              <a:xfrm rot="11700000">
                <a:off x="34358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1700000">
                <a:off x="476028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1700000">
                <a:off x="652176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642840" y="5003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68720" y="50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24800" y="49910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692400" y="3474720"/>
              <a:ext cx="628920" cy="784800"/>
              <a:chOff x="6692400" y="3474720"/>
              <a:chExt cx="628920" cy="784800"/>
            </a:xfrm>
          </p:grpSpPr>
          <p:sp>
            <p:nvSpPr>
              <p:cNvPr id="557" name=""/>
              <p:cNvSpPr/>
              <p:nvPr/>
            </p:nvSpPr>
            <p:spPr>
              <a:xfrm rot="418800">
                <a:off x="6734160" y="35049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8706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566640" y="5334120"/>
            <a:ext cx="897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 mutazioni nel promotore portano diminuzione del livello promo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 mutazioni puntiformi all’interno degli esoni causano sostituzioni aa o fine tra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 mutazioni introni, alterazione spl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 mutazione in siti di poliadeni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DF1-7CBD-463A-9693-6E2798DC16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82440" y="12193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440" y="198108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0680" y="3124080"/>
            <a:ext cx="9080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questa categoria appartengono l’emoglobine Lepore: per effetto di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 hanno una parziale omologia di sequenza)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he viene trascritto in minor quantita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5760" y="52815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5760" y="52833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41880" y="52833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150920" y="5675040"/>
            <a:ext cx="3967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46240" y="5581800"/>
            <a:ext cx="34128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82920" y="5581800"/>
            <a:ext cx="34272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54160" y="5581800"/>
            <a:ext cx="3416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67160" y="5562720"/>
            <a:ext cx="34272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6080" y="5581800"/>
            <a:ext cx="3398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53440" y="53150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08560" y="53150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0280" y="5661000"/>
            <a:ext cx="198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49600" y="5715000"/>
            <a:ext cx="209520" cy="1983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8920" y="6016680"/>
            <a:ext cx="4001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59160" y="5931000"/>
            <a:ext cx="34272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00520" y="5931000"/>
            <a:ext cx="33948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67160" y="5931000"/>
            <a:ext cx="3412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44960" y="5943600"/>
            <a:ext cx="341280" cy="138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28640" y="5931000"/>
            <a:ext cx="3430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62480" y="59799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93200" y="59817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48800" y="60404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75120" y="60404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38960" y="59817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681520" y="5765760"/>
            <a:ext cx="4141440" cy="1015920"/>
            <a:chOff x="5681520" y="5765760"/>
            <a:chExt cx="4141440" cy="1015920"/>
          </a:xfrm>
        </p:grpSpPr>
        <p:sp>
          <p:nvSpPr>
            <p:cNvPr id="589" name=""/>
            <p:cNvSpPr/>
            <p:nvPr/>
          </p:nvSpPr>
          <p:spPr>
            <a:xfrm>
              <a:off x="5738040" y="6321600"/>
              <a:ext cx="4002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68640" y="6235560"/>
              <a:ext cx="3420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089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11120" y="6235560"/>
              <a:ext cx="34092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3776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7160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02320" y="628668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98880" y="6345360"/>
              <a:ext cx="47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48440" y="628668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49840" y="57913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815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681520" y="4724280"/>
            <a:ext cx="4141440" cy="1016280"/>
            <a:chOff x="5681520" y="4724280"/>
            <a:chExt cx="4141440" cy="1016280"/>
          </a:xfrm>
        </p:grpSpPr>
        <p:sp>
          <p:nvSpPr>
            <p:cNvPr id="602" name=""/>
            <p:cNvSpPr/>
            <p:nvPr/>
          </p:nvSpPr>
          <p:spPr>
            <a:xfrm>
              <a:off x="7892280" y="482760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nti-Lep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815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14920" y="512604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6988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00600" y="512460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4636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855040" y="5516280"/>
              <a:ext cx="3967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5144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8812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590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322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05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5800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848080" y="515628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350920" y="542124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715-E98A-4D96-AA63-27250EAD1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1584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2600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86360" y="4495680"/>
            <a:ext cx="8511120" cy="1179000"/>
            <a:chOff x="486360" y="4495680"/>
            <a:chExt cx="8511120" cy="1179000"/>
          </a:xfrm>
        </p:grpSpPr>
        <p:sp>
          <p:nvSpPr>
            <p:cNvPr id="624" name=""/>
            <p:cNvSpPr/>
            <p:nvPr/>
          </p:nvSpPr>
          <p:spPr>
            <a:xfrm>
              <a:off x="4863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904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7D4-F378-4842-91AA-6BFF430CD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59640" y="1754280"/>
            <a:ext cx="8303400" cy="1618560"/>
            <a:chOff x="359640" y="1754280"/>
            <a:chExt cx="8303400" cy="1618560"/>
          </a:xfrm>
        </p:grpSpPr>
        <p:sp>
          <p:nvSpPr>
            <p:cNvPr id="640" name=""/>
            <p:cNvSpPr/>
            <p:nvPr/>
          </p:nvSpPr>
          <p:spPr>
            <a:xfrm>
              <a:off x="359640" y="175428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80840" y="29592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94520" y="3251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98600" y="4713120"/>
            <a:ext cx="8267040" cy="1618560"/>
            <a:chOff x="498600" y="4713120"/>
            <a:chExt cx="8267040" cy="1618560"/>
          </a:xfrm>
        </p:grpSpPr>
        <p:sp>
          <p:nvSpPr>
            <p:cNvPr id="644" name=""/>
            <p:cNvSpPr/>
            <p:nvPr/>
          </p:nvSpPr>
          <p:spPr>
            <a:xfrm>
              <a:off x="49860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18000" y="59180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32040" y="6210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5720" y="525600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59400" y="55479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160560" y="368928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026-C0A1-4C3A-B2B1-A55C989CAE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Le mutazioni d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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Thalassemia nelle diverse popolazion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431720" y="1754280"/>
            <a:ext cx="713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na  :  codone 41/42  -TCTT                    frameshift        38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2 654   C      T                                       15.7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71/76   + una base               frameshift        12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28G           A      G                                       11.6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17      A      T                                       10.5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84720" y="29592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67160" y="325116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6244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28880" y="41148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32040" y="4724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49600" y="22860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708560" y="5413320"/>
            <a:ext cx="6633000" cy="1313640"/>
            <a:chOff x="1708560" y="5413320"/>
            <a:chExt cx="6633000" cy="1313640"/>
          </a:xfrm>
        </p:grpSpPr>
        <p:sp>
          <p:nvSpPr>
            <p:cNvPr id="659" name=""/>
            <p:cNvSpPr/>
            <p:nvPr/>
          </p:nvSpPr>
          <p:spPr>
            <a:xfrm>
              <a:off x="1708560" y="5413320"/>
              <a:ext cx="6633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fro americani:  -29         A       G                                 60.3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88          C      T                                  21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24    T     A                                    7.9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6     - una base                                 0.8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34240" y="594684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51800" y="63277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51800" y="56419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3CC-8372-46EF-B89C-00BDBB6D8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erche’ queste differenze?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120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240-AAF0-4BC3-AC12-B4DC405DF9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Domand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41328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20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284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492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204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359-C843-4268-8A75-72F786A8D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  <a:ea typeface="ＭＳ Ｐゴシック"/>
              </a:rPr>
              <a:t>Cluster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12920" y="1523880"/>
            <a:ext cx="9245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0320" y="3505320"/>
            <a:ext cx="9028080" cy="742680"/>
            <a:chOff x="220320" y="3505320"/>
            <a:chExt cx="9028080" cy="742680"/>
          </a:xfrm>
        </p:grpSpPr>
        <p:sp>
          <p:nvSpPr>
            <p:cNvPr id="59" name=""/>
            <p:cNvSpPr/>
            <p:nvPr/>
          </p:nvSpPr>
          <p:spPr>
            <a:xfrm>
              <a:off x="2369880" y="41068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640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136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0932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1480" y="39654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95440" y="39654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36760" y="39654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33440" y="39654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21280" y="35053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40960" y="35784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917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865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704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2640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8000" y="36273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3440" y="4248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1480" y="42480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7320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3676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320" y="36194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370240" y="56498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37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213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81840" y="55087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8488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551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380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4000" y="50468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49600" y="5156280"/>
            <a:ext cx="563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960" y="51325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78400" y="50990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71360" y="50990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380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488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3112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7200" y="51562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000" y="50436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lobine 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1008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97320" y="5791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B44-4FC1-415D-B91E-D8728B3208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2680" y="169380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440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912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30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292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1560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2928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4648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74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019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720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424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84C-AA90-49CF-B509-E92DFE56E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30800" y="606096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459432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040" y="1244520"/>
            <a:ext cx="8811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lla di organizzare il raggruppamento in un dominio di cromatina attiv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gendo com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6080" y="2514600"/>
            <a:ext cx="91461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a sono state identificate le LCR per i due aggruppameni globin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’ stato anche possibile riconoscere che questa ipersensibilita’ e’ modulata n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96480" y="627840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112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8920" y="431316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544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48440" y="445284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488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90120" y="445284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9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7680" y="4594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1240" y="459432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6080" y="459432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19840" y="459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83760" y="45943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80" y="438480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1680" y="406728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176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39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31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61200" y="4383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2520" y="4383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42400" y="4383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11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53560" y="404172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78320" y="407844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2400" y="590220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9584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13800" y="590076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89800" y="590076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940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78200" y="591984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9920" y="60436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6160" y="604368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14640" y="606096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6560" y="6041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024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0320" y="576108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13520" y="606096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760" y="6041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61080" y="540072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5549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40160" y="583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38680" y="590076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6320" y="5850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97640" y="5850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756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9012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1200" y="5487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92240" y="5495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38600" y="556740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6200" y="554832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22800" y="553572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60" y="580068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524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32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DA1-17EB-4F57-A094-EE2A5947EA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080" y="456840"/>
            <a:ext cx="965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Sintesi globine nella vita fetale ed adult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1447920"/>
            <a:ext cx="8051760" cy="3290760"/>
            <a:chOff x="1073160" y="1447920"/>
            <a:chExt cx="8051760" cy="3290760"/>
          </a:xfrm>
        </p:grpSpPr>
        <p:sp>
          <p:nvSpPr>
            <p:cNvPr id="198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1604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80920" y="2414520"/>
            <a:ext cx="8620200" cy="2489400"/>
            <a:chOff x="880920" y="2414520"/>
            <a:chExt cx="8620200" cy="2489400"/>
          </a:xfrm>
        </p:grpSpPr>
        <p:sp>
          <p:nvSpPr>
            <p:cNvPr id="201" name=""/>
            <p:cNvSpPr/>
            <p:nvPr/>
          </p:nvSpPr>
          <p:spPr>
            <a:xfrm>
              <a:off x="880920" y="2414520"/>
              <a:ext cx="837756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908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66880" y="3303720"/>
            <a:ext cx="854640" cy="1473120"/>
            <a:chOff x="866880" y="3303720"/>
            <a:chExt cx="854640" cy="1473120"/>
          </a:xfrm>
        </p:grpSpPr>
        <p:sp>
          <p:nvSpPr>
            <p:cNvPr id="204" name=""/>
            <p:cNvSpPr/>
            <p:nvPr/>
          </p:nvSpPr>
          <p:spPr>
            <a:xfrm>
              <a:off x="866880" y="3303720"/>
              <a:ext cx="85248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180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73160" y="1944720"/>
            <a:ext cx="8075160" cy="2941560"/>
            <a:chOff x="1073160" y="1944720"/>
            <a:chExt cx="8075160" cy="2941560"/>
          </a:xfrm>
        </p:grpSpPr>
        <p:sp>
          <p:nvSpPr>
            <p:cNvPr id="207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4268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25920" y="4157640"/>
            <a:ext cx="4862880" cy="746280"/>
            <a:chOff x="4525920" y="4157640"/>
            <a:chExt cx="4862880" cy="746280"/>
          </a:xfrm>
        </p:grpSpPr>
        <p:sp>
          <p:nvSpPr>
            <p:cNvPr id="210" name=""/>
            <p:cNvSpPr/>
            <p:nvPr/>
          </p:nvSpPr>
          <p:spPr>
            <a:xfrm>
              <a:off x="4525920" y="4471920"/>
              <a:ext cx="465120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09540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4320" y="1716120"/>
            <a:ext cx="9391320" cy="4300560"/>
            <a:chOff x="184320" y="1716120"/>
            <a:chExt cx="9391320" cy="4300560"/>
          </a:xfrm>
        </p:grpSpPr>
        <p:sp>
          <p:nvSpPr>
            <p:cNvPr id="213" name=""/>
            <p:cNvSpPr/>
            <p:nvPr/>
          </p:nvSpPr>
          <p:spPr>
            <a:xfrm>
              <a:off x="743040" y="171612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160" y="4916520"/>
              <a:ext cx="89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040" y="5678640"/>
              <a:ext cx="883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0" y="564840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28880" y="499284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41320" y="499572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2600" y="529740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57880" y="529740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184320" y="238428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436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3972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060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508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874-AB61-445F-9A0A-AFE0B724D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47680" y="1295280"/>
            <a:ext cx="94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0120" y="2514600"/>
            <a:ext cx="94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0120" y="35053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autosomiche recessive, ma possono essere manifestate anche in eterozigo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120" y="44197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2920" y="532296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Le thalassemie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5DB-7CA7-480E-A0D4-BFDC1A8BEC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352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86920" y="2505240"/>
            <a:ext cx="9027720" cy="1065960"/>
            <a:chOff x="286920" y="2505240"/>
            <a:chExt cx="9027720" cy="1065960"/>
          </a:xfrm>
        </p:grpSpPr>
        <p:sp>
          <p:nvSpPr>
            <p:cNvPr id="234" name=""/>
            <p:cNvSpPr/>
            <p:nvPr/>
          </p:nvSpPr>
          <p:spPr>
            <a:xfrm>
              <a:off x="3287520" y="250524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86920" y="2555640"/>
              <a:ext cx="9027720" cy="1015560"/>
              <a:chOff x="286920" y="2555640"/>
              <a:chExt cx="9027720" cy="1015560"/>
            </a:xfrm>
          </p:grpSpPr>
          <p:sp>
            <p:nvSpPr>
              <p:cNvPr id="236" name=""/>
              <p:cNvSpPr/>
              <p:nvPr/>
            </p:nvSpPr>
            <p:spPr>
              <a:xfrm>
                <a:off x="2436120" y="310644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5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72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7520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67720" y="2964960"/>
                <a:ext cx="53604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61320" y="2964960"/>
                <a:ext cx="53496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70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680" y="2964960"/>
                <a:ext cx="53460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07200" y="257760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5836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528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932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922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23880" y="262692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6920" y="261900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globine 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2436120" y="3288960"/>
                <a:ext cx="6878160" cy="282240"/>
                <a:chOff x="2436120" y="3288960"/>
                <a:chExt cx="6878160" cy="2822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436120" y="342972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526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872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8748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67360" y="3288960"/>
                  <a:ext cx="53604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60960" y="3288960"/>
                  <a:ext cx="53496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70228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99320" y="3288960"/>
                  <a:ext cx="534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993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867360" y="357120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9387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70228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4" name=""/>
          <p:cNvSpPr/>
          <p:nvPr/>
        </p:nvSpPr>
        <p:spPr>
          <a:xfrm>
            <a:off x="1267920" y="4451400"/>
            <a:ext cx="70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92240" y="3876840"/>
            <a:ext cx="2476440" cy="505800"/>
            <a:chOff x="1092240" y="3876840"/>
            <a:chExt cx="2476440" cy="505800"/>
          </a:xfrm>
        </p:grpSpPr>
        <p:sp>
          <p:nvSpPr>
            <p:cNvPr id="266" name=""/>
            <p:cNvSpPr/>
            <p:nvPr/>
          </p:nvSpPr>
          <p:spPr>
            <a:xfrm flipV="1">
              <a:off x="1778040" y="398088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74160" y="387684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62480" y="387684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4600" y="387684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2240" y="43264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69280" y="42256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600" y="42256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9720" y="42256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49400" y="4045320"/>
              <a:ext cx="171360" cy="16848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715000" y="3952800"/>
            <a:ext cx="2361960" cy="433440"/>
            <a:chOff x="5715000" y="3952800"/>
            <a:chExt cx="2361960" cy="433440"/>
          </a:xfrm>
        </p:grpSpPr>
        <p:sp>
          <p:nvSpPr>
            <p:cNvPr id="276" name=""/>
            <p:cNvSpPr/>
            <p:nvPr/>
          </p:nvSpPr>
          <p:spPr>
            <a:xfrm>
              <a:off x="5886360" y="40489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82800" y="39528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71120" y="39528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53240" y="39528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86320" y="43254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1120" y="4229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53240" y="4229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39549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311720" y="4181400"/>
            <a:ext cx="907920" cy="15264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2920" y="5029200"/>
            <a:ext cx="84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0920" y="5783400"/>
            <a:ext cx="79434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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  <a:ea typeface="ＭＳ Ｐゴシック"/>
              </a:rPr>
              <a:t>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06B-675A-4016-95C2-41CA5FF30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42680" y="59328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Genotipi e fenotipi nella </a:t>
            </a:r>
            <a:r>
              <a:rPr b="1" lang="en-US" sz="2800" spc="-1" strike="noStrike">
                <a:solidFill>
                  <a:srgbClr val="ff04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-thalassemia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5000" y="16146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9840" y="281772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120" y="3870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5160" y="4967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26600" y="1050840"/>
            <a:ext cx="1398240" cy="4419720"/>
            <a:chOff x="1326600" y="1050840"/>
            <a:chExt cx="1398240" cy="4419720"/>
          </a:xfrm>
        </p:grpSpPr>
        <p:sp>
          <p:nvSpPr>
            <p:cNvPr id="294" name=""/>
            <p:cNvSpPr/>
            <p:nvPr/>
          </p:nvSpPr>
          <p:spPr>
            <a:xfrm>
              <a:off x="140364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326600" y="1334880"/>
              <a:ext cx="1398240" cy="4001040"/>
              <a:chOff x="1326600" y="1334880"/>
              <a:chExt cx="1398240" cy="40010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334160" y="1334880"/>
                <a:ext cx="1390680" cy="2854080"/>
                <a:chOff x="1334160" y="1334880"/>
                <a:chExt cx="1390680" cy="285408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1517400" y="1754280"/>
                  <a:ext cx="11149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11440" y="168264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207880" y="1682640"/>
                  <a:ext cx="26640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3908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3876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17400" y="2122560"/>
                  <a:ext cx="111492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11440" y="206064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207880" y="2060640"/>
                  <a:ext cx="26640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1856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1824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765440" y="26733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334160" y="354636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326600" y="493704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751480" y="1050840"/>
            <a:ext cx="1359360" cy="4419720"/>
            <a:chOff x="2751480" y="1050840"/>
            <a:chExt cx="1359360" cy="4419720"/>
          </a:xfrm>
        </p:grpSpPr>
        <p:sp>
          <p:nvSpPr>
            <p:cNvPr id="311" name=""/>
            <p:cNvSpPr/>
            <p:nvPr/>
          </p:nvSpPr>
          <p:spPr>
            <a:xfrm>
              <a:off x="2751480" y="105084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68760" y="1754280"/>
              <a:ext cx="1114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63160" y="168264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960" y="168264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864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8940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8760" y="2122560"/>
              <a:ext cx="111420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63160" y="206064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8120" y="1712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17160" y="26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12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4680" y="49482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48240" y="1050840"/>
            <a:ext cx="1434600" cy="4419720"/>
            <a:chOff x="5448240" y="1050840"/>
            <a:chExt cx="1434600" cy="4419720"/>
          </a:xfrm>
        </p:grpSpPr>
        <p:sp>
          <p:nvSpPr>
            <p:cNvPr id="324" name=""/>
            <p:cNvSpPr/>
            <p:nvPr/>
          </p:nvSpPr>
          <p:spPr>
            <a:xfrm>
              <a:off x="5448240" y="1050840"/>
              <a:ext cx="13208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448240" y="1330200"/>
              <a:ext cx="1434600" cy="4012200"/>
              <a:chOff x="5448240" y="1330200"/>
              <a:chExt cx="1434600" cy="401220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5448240" y="1748880"/>
                <a:ext cx="1113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42280" y="1677960"/>
                <a:ext cx="26820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67760" y="13302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48240" y="2117520"/>
                <a:ext cx="11138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2280" y="2055600"/>
                <a:ext cx="26820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7600" y="170820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96280" y="2668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92160" y="356544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63440" y="49435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769080" y="1050840"/>
            <a:ext cx="1578240" cy="4419720"/>
            <a:chOff x="6769080" y="1050840"/>
            <a:chExt cx="1578240" cy="4419720"/>
          </a:xfrm>
        </p:grpSpPr>
        <p:sp>
          <p:nvSpPr>
            <p:cNvPr id="336" name=""/>
            <p:cNvSpPr/>
            <p:nvPr/>
          </p:nvSpPr>
          <p:spPr>
            <a:xfrm>
              <a:off x="6796080" y="1050840"/>
              <a:ext cx="14446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69080" y="17496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3120" y="16779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88960" y="13302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9080" y="21178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1712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48280" y="356544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7200" y="463248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00400" y="1050840"/>
            <a:ext cx="1405440" cy="4419720"/>
            <a:chOff x="4100400" y="1050840"/>
            <a:chExt cx="1405440" cy="4419720"/>
          </a:xfrm>
        </p:grpSpPr>
        <p:grpSp>
          <p:nvGrpSpPr>
            <p:cNvPr id="345" name=""/>
            <p:cNvGrpSpPr/>
            <p:nvPr/>
          </p:nvGrpSpPr>
          <p:grpSpPr>
            <a:xfrm>
              <a:off x="4100400" y="1050840"/>
              <a:ext cx="1320120" cy="4419720"/>
              <a:chOff x="4100400" y="1050840"/>
              <a:chExt cx="1320120" cy="4419720"/>
            </a:xfrm>
          </p:grpSpPr>
          <p:sp>
            <p:nvSpPr>
              <p:cNvPr id="346" name=""/>
              <p:cNvSpPr/>
              <p:nvPr/>
            </p:nvSpPr>
            <p:spPr>
              <a:xfrm>
                <a:off x="4100400" y="105084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4127400" y="177480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22160" y="170316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18960" y="170316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72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476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27400" y="214308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76160" y="2693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43320" y="49687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1562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8282160" y="1050840"/>
            <a:ext cx="1443960" cy="4419720"/>
            <a:chOff x="8282160" y="1050840"/>
            <a:chExt cx="1443960" cy="4419720"/>
          </a:xfrm>
        </p:grpSpPr>
        <p:sp>
          <p:nvSpPr>
            <p:cNvPr id="357" name=""/>
            <p:cNvSpPr/>
            <p:nvPr/>
          </p:nvSpPr>
          <p:spPr>
            <a:xfrm>
              <a:off x="8282160" y="105084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8378280" y="17488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78280" y="21175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3560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24280" y="384012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5280" y="494352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05720" y="5411880"/>
            <a:ext cx="901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’emoglobina:mutazione nel sito di poliadenilazione, perdita del codon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4F8-6A02-4171-9BBE-FF098B600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400"/>
                </a:solidFill>
                <a:latin typeface="Comic Sans MS"/>
              </a:rPr>
              <a:t>Possibile progenie dei portatori</a:t>
            </a:r>
            <a:endParaRPr b="1" lang="en-US" sz="2800" spc="-1" strike="noStrike">
              <a:solidFill>
                <a:srgbClr val="ff04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9816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67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572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64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556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77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4800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840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85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4204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2152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3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615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90880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7400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4896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6856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3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05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154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9968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826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72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6146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19480" y="2895480"/>
            <a:ext cx="1628280" cy="1299240"/>
            <a:chOff x="3219480" y="2895480"/>
            <a:chExt cx="1628280" cy="1299240"/>
          </a:xfrm>
        </p:grpSpPr>
        <p:grpSp>
          <p:nvGrpSpPr>
            <p:cNvPr id="418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920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770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6184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219480" y="2946240"/>
              <a:ext cx="1628280" cy="1248480"/>
              <a:chOff x="3219480" y="2946240"/>
              <a:chExt cx="1628280" cy="1248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219480" y="2946240"/>
                <a:ext cx="156816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30300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5200560" y="2895480"/>
            <a:ext cx="1651320" cy="1295640"/>
            <a:chOff x="5200560" y="2895480"/>
            <a:chExt cx="1651320" cy="1295640"/>
          </a:xfrm>
        </p:grpSpPr>
        <p:sp>
          <p:nvSpPr>
            <p:cNvPr id="431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5212800" y="2895480"/>
              <a:ext cx="1639080" cy="1130400"/>
              <a:chOff x="5212800" y="2895480"/>
              <a:chExt cx="1639080" cy="11304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34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314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1160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21280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2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3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1384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2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896560" y="4952880"/>
            <a:ext cx="1643400" cy="1295640"/>
            <a:chOff x="2896560" y="4952880"/>
            <a:chExt cx="1643400" cy="1295640"/>
          </a:xfrm>
        </p:grpSpPr>
        <p:sp>
          <p:nvSpPr>
            <p:cNvPr id="450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656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839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5368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6273720" y="4952880"/>
            <a:ext cx="1628640" cy="1298880"/>
            <a:chOff x="6273720" y="4952880"/>
            <a:chExt cx="1628640" cy="1298880"/>
          </a:xfrm>
        </p:grpSpPr>
        <p:grpSp>
          <p:nvGrpSpPr>
            <p:cNvPr id="460" name=""/>
            <p:cNvGrpSpPr/>
            <p:nvPr/>
          </p:nvGrpSpPr>
          <p:grpSpPr>
            <a:xfrm>
              <a:off x="6416280" y="4952880"/>
              <a:ext cx="1320120" cy="878040"/>
              <a:chOff x="6416280" y="4952880"/>
              <a:chExt cx="1320120" cy="87804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6416280" y="5336640"/>
                <a:ext cx="13010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4128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24120" y="5246280"/>
                <a:ext cx="3088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4596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3096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35360" y="5760720"/>
                <a:ext cx="13010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6000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1608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5760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2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40456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499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0" name=""/>
            <p:cNvSpPr/>
            <p:nvPr/>
          </p:nvSpPr>
          <p:spPr>
            <a:xfrm>
              <a:off x="34236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3" name=""/>
            <p:cNvSpPr/>
            <p:nvPr/>
          </p:nvSpPr>
          <p:spPr>
            <a:xfrm>
              <a:off x="25380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86" name=""/>
            <p:cNvSpPr/>
            <p:nvPr/>
          </p:nvSpPr>
          <p:spPr>
            <a:xfrm>
              <a:off x="537264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073160" y="4876920"/>
            <a:ext cx="1628640" cy="1298880"/>
            <a:chOff x="1073160" y="4876920"/>
            <a:chExt cx="1628640" cy="1298880"/>
          </a:xfrm>
        </p:grpSpPr>
        <p:grpSp>
          <p:nvGrpSpPr>
            <p:cNvPr id="489" name=""/>
            <p:cNvGrpSpPr/>
            <p:nvPr/>
          </p:nvGrpSpPr>
          <p:grpSpPr>
            <a:xfrm>
              <a:off x="1215720" y="4876920"/>
              <a:ext cx="1320120" cy="878040"/>
              <a:chOff x="1215720" y="4876920"/>
              <a:chExt cx="1320120" cy="87804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1215720" y="5260680"/>
                <a:ext cx="13010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4072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23560" y="5170320"/>
                <a:ext cx="3088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4540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3040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34800" y="5684760"/>
                <a:ext cx="130104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5944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1552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5704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7C0-2948-4309-88F6-2443E72D4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3:04:24Z</dcterms:created>
  <dc:creator>Rocchi</dc:creator>
  <dc:description/>
  <dc:language>en-US</dc:language>
  <cp:lastModifiedBy>Mariano Rocchi</cp:lastModifiedBy>
  <cp:lastPrinted>2005-06-11T07:35:32Z</cp:lastPrinted>
  <dcterms:modified xsi:type="dcterms:W3CDTF">2005-06-12T16:05:38Z</dcterms:modified>
  <cp:revision>402</cp:revision>
  <dc:subject/>
  <dc:title>PowerPoint Presentation</dc:title>
</cp:coreProperties>
</file>